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008-E356-4625-A4A5-2A6B05D4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CFE-AE9A-49E0-A59D-A2F4A235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69C-8F70-4C8B-A5E4-C04A767A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826-AB47-47D1-8F0C-B6582F67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D896-FBB1-4A75-9AB8-25213253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7988-1CA3-452F-AAC4-09BECE74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3125-166A-48A0-B6C7-32D784E5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8459-5937-4F8C-BAF2-8207C496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48AE-D723-44F5-B34F-B00178DA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CA2B-0E86-4D71-96E6-72AA924D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6224-A6A0-4F05-BD7D-8649B93E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E21-9190-4154-A14E-5CF7BA78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7ADE-CBB7-4B3A-BC9E-56568422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9DE2-5BC6-4ABA-BBE3-7628A32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760C-82F5-4F99-A6DC-68AE73CB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D777-CD89-471B-8712-67A6A5FB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B113-C5AD-42FA-B7EF-6A1F9439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6F9-A5A0-443A-A700-FAD604D1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CF3-4533-4787-B790-A8C46D6C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5FC-5E82-4EB4-894E-14A917BB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B714-423F-4301-9E66-BA57FFCB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0B2-E4F0-400A-8805-E5E8DC99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CA4-DF2C-4FC5-B380-A6EEEA12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CF6-BE62-4107-8F46-FC7584D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2A5A-4F3E-4C6C-B607-E16BEC0EA3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1A14-5E08-4D9F-8731-8A4D1EEDCC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-archive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 rot="1008000">
            <a:off x="1599840" y="609120"/>
            <a:ext cx="40384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&amp;M's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842160" y="4876920"/>
            <a:ext cx="199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0292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Andr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Monday, September 27 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Computer #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05720" y="3124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579132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ideo Gam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4-2010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48480" y="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702040" y="586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vention:M&amp;M’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sign had been made on March 3, 1941, and  M&amp;M’s went on s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ndy was originally sold in paper tubes, the colors went to brown ,yellow ,orange ,red, green ,and then purple was replaced with t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 on the M&amp;M’s was black then they made it wh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go was “The milk chocolate is supposed to melt in your mouth not on your had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s has 30,000 employees working for him with worldwide sales of more then $20 billion per yea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ventor:Forrest Mars,S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s was born on March 21 ,1904 in Minneso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ent to the University of California then transferred to Yale University where he got a degree in industrial engineering in192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father Frank C. Mars had been operating a successful candy factory business in Chicag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he handed it down to Forrest and invited him to work with h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Europe he worked at the same candy compan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anted to move back to the U.S and open his own busines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where in his travels he came across a candy that was essentially tiny chocolate pellets surrounded by a sugar she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s made his own version and started his own Hersey Corporation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named in M&amp;M’s and that’s how the M&amp;M’s were inven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Mars"/>
          <p:cNvPicPr/>
          <p:nvPr/>
        </p:nvPicPr>
        <p:blipFill>
          <a:blip r:embed="rId1"/>
          <a:stretch/>
        </p:blipFill>
        <p:spPr>
          <a:xfrm>
            <a:off x="0" y="0"/>
            <a:ext cx="7772400" cy="2395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Mars"/>
          <p:cNvPicPr/>
          <p:nvPr/>
        </p:nvPicPr>
        <p:blipFill>
          <a:blip r:embed="rId2"/>
          <a:stretch/>
        </p:blipFill>
        <p:spPr>
          <a:xfrm>
            <a:off x="6564240" y="3505320"/>
            <a:ext cx="2579760" cy="3352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819520"/>
            <a:ext cx="607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b7"/>
                </a:solidFill>
                <a:latin typeface="Arial Black"/>
              </a:rPr>
              <a:t>Lemelson MIT progra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b7"/>
                </a:solidFill>
                <a:latin typeface="Arial Black"/>
              </a:rPr>
              <a:t>Forrest Mars, S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b7"/>
                </a:solidFill>
                <a:latin typeface="Arial Black"/>
              </a:rPr>
              <a:t>9-29-10</a:t>
            </a:r>
            <a:r>
              <a:rPr b="0" i="1" lang="en-US" sz="3600" spc="-1" strike="noStrike">
                <a:solidFill>
                  <a:srgbClr val="99ff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web.mit.edu/invent/i-archiv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3:10Z</dcterms:created>
  <dc:creator>install</dc:creator>
  <dc:description/>
  <dc:language>en-US</dc:language>
  <cp:lastModifiedBy>install</cp:lastModifiedBy>
  <dcterms:modified xsi:type="dcterms:W3CDTF">2010-10-13T17:54:46Z</dcterms:modified>
  <cp:revision>12</cp:revision>
  <dc:subject/>
  <dc:title>Slide 1</dc:title>
</cp:coreProperties>
</file>